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739-1510-4EAB-BBBB-1BD5E5CF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434-FD73-41AE-94B4-8AC7BB8E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216-1D91-4459-8403-8945FFC1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093-9A9D-4C4E-85BB-2DD12D6D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084-8A20-4E6E-911A-92F978CB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F3D-92D0-41D5-BC60-A1787250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D27-DC5B-4EE7-BEA5-8937072A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5BC-EF3E-42D3-A34F-793E021D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F3C9-2F0F-45A2-AE9E-36EF9C7D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8C3-C576-4D3C-B251-B15AF8C8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3BB-E66D-4FA8-9163-07C3911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790-885D-4B09-875C-4632652F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9684-87FF-4536-BD1F-81B24591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4 Outcome 1, Spreadsheet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ations and Information Needs, Ch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s of information syste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decisions: (revised) strategic, tactical and operational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plan is a process for identifying long term goals within an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s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a set of common goals that will help accomplish the organisations ai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 are small achievable tasks undertaken to accomplish a big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b/w goals of non-profit &amp; for-profit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goals: efficiency, improving effectiveness, improving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fficien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, Cost, Time &amp;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ffective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uality of output, accuracy, presentation &amp; comprehens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mproved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quires 3 factors, sufficient nformation, communication and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 of H/W &amp; S/W components of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sheet Software, formats &amp; conven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s right aligned in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oney values usually have two decimal places or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ubtotals have a single line above the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rand totals have a single or double line below the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rand totals are in b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raphs and charts must have titles identifying the name of the organisation and purpose of the graph or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x and y axis must be lab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mit the number of items represented in a chart to five or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re a page on a sheet horizont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riefly explain the purpose of the spreadsheet and identify the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here cells require user input, clearly label what has to be entered, left sid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st all equations used in a separate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readsheets, Vali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checking, use of IF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ence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ype checking, eg. integers, date, alignment of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ed data entry, drop down 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alerts, pop up dialog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&amp;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– input; testing is output; testing also checking electronic val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ty, eg. test formulas &amp; functions, eg. test both upper &amp; lower boundaries of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udience, difficult to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or formats &amp; co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accessible to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links work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sc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eets clearly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rs accidentally delete formulas or chance validation rules; input cells un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solution open at right w/sh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sizes easy to read; limited use of red &amp; 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of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information clear &amp; ob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21:24:28Z</dcterms:created>
  <dc:creator>Kelvin Baird</dc:creator>
  <dc:description/>
  <dc:language>en-US</dc:language>
  <cp:lastModifiedBy>Kelvin Baird</cp:lastModifiedBy>
  <dcterms:modified xsi:type="dcterms:W3CDTF">2007-06-20T22:01:46Z</dcterms:modified>
  <cp:revision>2</cp:revision>
  <dc:subject/>
  <dc:title>Unit 4 Outcome 1, Spreadsheet software</dc:title>
</cp:coreProperties>
</file>